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18.wmf" ContentType="image/x-wmf"/>
  <Override PartName="/ppt/media/image3.jpeg" ContentType="image/jpeg"/>
  <Override PartName="/ppt/media/image17.wmf" ContentType="image/x-wmf"/>
  <Override PartName="/ppt/media/image16.gif" ContentType="image/gif"/>
  <Override PartName="/ppt/media/image1.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BD3C-7F38-40DF-94FC-C0551287A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46C5-4966-4A38-8791-7796B5B9B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59D8-E6D2-4545-BFBD-CD73E55F7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mp;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amp; Information Cent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of computers, photocopier, fax, scann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ources such as books/directories/guides, career cruising, Scott's directo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posting resources such as employment weekly, peters new job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unity resources &amp; community partner inform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of Services Needed/Referral to Appropriate Services – orientation includes what individual needs and what are they looking for – review of what’s available with us and our community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Search Workshops – given you a monthly calendar of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Pos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ANYONE IS ELIGIBLE TO USE THIS SERVICES – FREE FOR ALL</a:t>
            </a: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FE47-6A41-471B-B38C-0F5C8F67D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full time work/school/training, eligible to work in Canada</a:t>
            </a: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6213-F041-482E-8CEA-B8E8C72C5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work, training full time; eligible to work in Canada</a:t>
            </a: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D9B9-1E0D-412F-BA54-C8D067F3E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86B2-B279-40D5-932E-1790E8603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F47A-0E75-4AFC-85EF-9ADD5C993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auga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mpton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00 Hurontario St, Unit 6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3 Queen St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ervice Providers within Mississauga – Here is a list of other Service Providers that do the same thing we do within Mississauga (HAND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2B4F-C2BD-4041-86F0-F9F654CA9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C527-533C-4D05-9396-40720DF48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we?</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for profit, progressive corporation located throughout Peel, Toronto &amp; Halton, with our head office in Mississauga. We enhance the self sufficiency and effectiveness of individuals and organizations by offering customized education, training and career resource solu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do we 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SSAUGA/BRAMPT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of our locations are in Mississauga &amp; Brampton are co-located Employment Services &amp; Newcomer Information Cent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f these locations are part of the Community Door Project – what is it &amp; how does it wor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 Door is a coming together of agencies to provide a ‘One Stop Shop’ for clients - a central location for social, family, senior and health service resour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communitydoor.ca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Funder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Canad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hip &amp; Immigration Canada – for newcomer type of servi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e - o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8110-E12B-4384-9636-4F4B7615B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8723-7F0A-41A4-906A-351D245A9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that are mostly not ‘funded’ services –  ‘fee for services’ type of programs</a:t>
            </a: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3637-BEFD-4084-A685-58D805778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er Coach – funded by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ability Skills for Youth – funded by Service Can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 Employability Program for Youth – funded by Service Can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e for Service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Cam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e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el Summer Academy</a:t>
            </a: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5A04-DB70-4F7A-99DD-706F9B168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se programs are funded entirely or in part through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B0E4-3229-45F8-A764-2E411AFD8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poke of the first 4 programs already and will now focus on the last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 Employment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B9B4-6D4B-43D2-97CD-BBA3ABA11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for Education &amp; Training is pleased to be part of Employment Ontario; an integrated employment and training network, helping Ontarians to find employment and training services that they need. As part of this network we will work with individuals, employers and communities to build the highly skilled, highly educated workforce Ontario needs to be competitive.  </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8099-13FF-4571-9FE0-4826D8B37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ded by Employment Ont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ay of bringing employment services to clients – August 2010 – switched to ‘ONE STOP SH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F09B-26B7-4596-933C-F7B885463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41937-DBBD-453D-AC32-5383B0971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1C75B-A6BE-49F7-A952-08DA7F6B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7FC25-C886-47EE-A2EC-233652945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70027-8684-41FF-9F0E-CB4AF9650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CFCEA-CF94-4CDF-B260-F687A12D2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ABC23-D5B9-4479-86D7-696A8B98D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ADA23-7A4E-40FA-88B7-748EE96D6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7E9F0-FC3D-4037-B42E-0794A88B3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51241-EA5D-4E9E-B62F-0C621C3C7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D98F5-AC1F-4564-BC08-9DAF8B182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CB8DA-F072-4392-8FAE-ED9AD7ADD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DAD77-FD85-40E0-87A7-4666B6FB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155F9-AAB7-484B-AEBF-902AA9068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0EC44-EC80-4FEB-8DF0-4B4924513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781C4-D7D5-4336-83F7-0B9884C90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79D66-C22A-4FF0-B66C-2B94915FF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C072C-870C-42FB-9A83-F639A3336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36C3-0B6E-4985-AD9E-CAECA49B9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60369-5679-4D2C-B2C5-B1299682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0ED7-F76D-4552-B1FC-D7C13040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E6FA-6334-4CB7-BD15-79B89C28B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7F22-D21E-4064-ADB9-0BC54484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8A46-5BA8-4C0C-9FB3-6EAFB7CE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BF96-BB4B-489B-81CA-635603A62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5CE5-0AD7-4ADD-B8E6-B7C5CE258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Blue n Gold Swoosh with Logo"/>
          <p:cNvPicPr/>
          <p:nvPr/>
        </p:nvPicPr>
        <p:blipFill>
          <a:blip r:embed="rId2"/>
          <a:stretch/>
        </p:blipFill>
        <p:spPr>
          <a:xfrm>
            <a:off x="0" y="0"/>
            <a:ext cx="9144000" cy="2346480"/>
          </a:xfrm>
          <a:prstGeom prst="rect">
            <a:avLst/>
          </a:prstGeom>
          <a:ln w="0">
            <a:noFill/>
          </a:ln>
        </p:spPr>
      </p:pic>
      <p:pic>
        <p:nvPicPr>
          <p:cNvPr id="6" name="Picture 7" descr="CET Logo 2007 Stacked BLUE294C&amp;GOLD118C w Tagline"/>
          <p:cNvPicPr/>
          <p:nvPr/>
        </p:nvPicPr>
        <p:blipFill>
          <a:blip r:embed="rId3"/>
          <a:stretch/>
        </p:blipFill>
        <p:spPr>
          <a:xfrm>
            <a:off x="4495680" y="152280"/>
            <a:ext cx="4334040" cy="10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Blue n Gold Swoosh with Logo"/>
          <p:cNvPicPr/>
          <p:nvPr/>
        </p:nvPicPr>
        <p:blipFill>
          <a:blip r:embed="rId2"/>
          <a:stretch/>
        </p:blipFill>
        <p:spPr>
          <a:xfrm>
            <a:off x="0" y="0"/>
            <a:ext cx="9144000" cy="2346480"/>
          </a:xfrm>
          <a:prstGeom prst="rect">
            <a:avLst/>
          </a:prstGeom>
          <a:ln w="0">
            <a:noFill/>
          </a:ln>
        </p:spPr>
      </p:pic>
      <p:pic>
        <p:nvPicPr>
          <p:cNvPr id="44" name="Picture 7" descr="CET Logo 2007 Stacked BLUE294C&amp;GOLD118C w Tagline"/>
          <p:cNvPicPr/>
          <p:nvPr/>
        </p:nvPicPr>
        <p:blipFill>
          <a:blip r:embed="rId3"/>
          <a:stretch/>
        </p:blipFill>
        <p:spPr>
          <a:xfrm>
            <a:off x="4495680" y="152280"/>
            <a:ext cx="4334040" cy="10652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990360" y="2971440"/>
            <a:ext cx="7391160" cy="289548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Presentation b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Margaret Penn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ordinator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Services, Mississau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1896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Components to our Employment Services</a:t>
            </a:r>
            <a:endParaRPr b="0" lang="en-US" sz="32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 &amp; Information</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Development</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Retention</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2" descr="C:\Documents and Settings\mPenner\Local Settings\Temporary Internet Files\Content.IE5\JBGC84QO\MC900078729[1].wmf"/>
          <p:cNvPicPr/>
          <p:nvPr/>
        </p:nvPicPr>
        <p:blipFill>
          <a:blip r:embed="rId1"/>
          <a:stretch/>
        </p:blipFill>
        <p:spPr>
          <a:xfrm>
            <a:off x="5943600" y="3962520"/>
            <a:ext cx="26258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Resource &amp; Informa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s &amp; Information Centre</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Assessment of Services Needed</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Appropriate Service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 Workshop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Posting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C:\Documents and Settings\mPenner\Local Settings\Temporary Internet Files\Content.IE5\K6FJT52Q\MC900230509[1].wmf"/>
          <p:cNvPicPr/>
          <p:nvPr/>
        </p:nvPicPr>
        <p:blipFill>
          <a:blip r:embed="rId1"/>
          <a:stretch/>
        </p:blipFill>
        <p:spPr>
          <a:xfrm>
            <a:off x="6480000" y="3809880"/>
            <a:ext cx="266400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Search</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e-on-one employment coaching</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Developing an action plan together</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and guidance in every component of an individual’s job search</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other services/program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2" descr="C:\Documents and Settings\mPenner\Local Settings\Temporary Internet Files\Content.IE5\K6FJT52Q\MC900056113[1].wmf"/>
          <p:cNvPicPr/>
          <p:nvPr/>
        </p:nvPicPr>
        <p:blipFill>
          <a:blip r:embed="rId1"/>
          <a:stretch/>
        </p:blipFill>
        <p:spPr>
          <a:xfrm>
            <a:off x="6629400" y="4800600"/>
            <a:ext cx="234792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Development</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upport in connecting with the Labour Market – directly or indirectly</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for individuals during the first few months on the job</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ers </a:t>
            </a:r>
            <a:r>
              <a:rPr b="0" lang="en-US" sz="2800" spc="-1" strike="noStrike" u="sng">
                <a:solidFill>
                  <a:srgbClr val="262673"/>
                </a:solidFill>
                <a:uFillTx/>
                <a:latin typeface="Arial"/>
              </a:rPr>
              <a:t>may</a:t>
            </a:r>
            <a:r>
              <a:rPr b="0" lang="en-US" sz="2800" spc="-1" strike="noStrike">
                <a:solidFill>
                  <a:srgbClr val="262673"/>
                </a:solidFill>
                <a:latin typeface="Arial"/>
              </a:rPr>
              <a:t> be provided with financial incentives to assist with the clients’           training needs (on-the-job)</a:t>
            </a:r>
            <a:endParaRPr b="0" lang="en-US" sz="2800" spc="-1" strike="noStrike">
              <a:solidFill>
                <a:srgbClr val="000000"/>
              </a:solidFill>
              <a:latin typeface="Arial"/>
            </a:endParaRPr>
          </a:p>
        </p:txBody>
      </p:sp>
      <p:pic>
        <p:nvPicPr>
          <p:cNvPr id="118" name="Picture 3" descr="C:\Documents and Settings\mPenner\Local Settings\Temporary Internet Files\Content.IE5\1WWNUSJH\MC900060155[1].wmf"/>
          <p:cNvPicPr/>
          <p:nvPr/>
        </p:nvPicPr>
        <p:blipFill>
          <a:blip r:embed="rId1"/>
          <a:stretch/>
        </p:blipFill>
        <p:spPr>
          <a:xfrm>
            <a:off x="7238880" y="4419720"/>
            <a:ext cx="1905120" cy="199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Retention</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either through one-on-one coaching and mentoring or through group sessions to provide assistance to         individuals to keep their jobs</a:t>
            </a:r>
            <a:endParaRPr b="0" lang="en-US" sz="2800" spc="-1" strike="noStrike">
              <a:solidFill>
                <a:srgbClr val="000000"/>
              </a:solidFill>
              <a:latin typeface="Arial"/>
            </a:endParaRPr>
          </a:p>
        </p:txBody>
      </p:sp>
      <p:pic>
        <p:nvPicPr>
          <p:cNvPr id="120" name="Picture 8" descr="C:\Documents and Settings\mPenner\Local Settings\Temporary Internet Files\Content.IE5\367L4V63\MC900383638[1].wmf"/>
          <p:cNvPicPr/>
          <p:nvPr/>
        </p:nvPicPr>
        <p:blipFill>
          <a:blip r:embed="rId1"/>
          <a:stretch/>
        </p:blipFill>
        <p:spPr>
          <a:xfrm>
            <a:off x="6124680" y="4038480"/>
            <a:ext cx="30193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me directly over to our centre         (Monday through Friday 9am-4pm)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all to inquire about our services (905.949.0049 ext. 2040)</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2" descr="C:\Documents and Settings\mPenner\Local Settings\Temporary Internet Files\Content.IE5\TIXYAV7W\MM900041089[1].gif"/>
          <p:cNvPicPr/>
          <p:nvPr/>
        </p:nvPicPr>
        <p:blipFill>
          <a:blip r:embed="rId1"/>
          <a:stretch/>
        </p:blipFill>
        <p:spPr>
          <a:xfrm>
            <a:off x="6934320" y="2590920"/>
            <a:ext cx="1809720" cy="34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04560" y="1523520"/>
            <a:ext cx="9219960" cy="49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Mississauga – 2 locations</a:t>
            </a:r>
            <a:endParaRPr b="0" lang="en-US" sz="3200" spc="-1" strike="noStrike">
              <a:solidFill>
                <a:srgbClr val="000000"/>
              </a:solidFill>
              <a:latin typeface="Arial"/>
            </a:endParaRPr>
          </a:p>
          <a:p>
            <a:pPr marL="343080" indent="-34308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50 Burnhamthorpe Rd W, Suite 300 (Sussex Centre)</a:t>
            </a:r>
            <a:endParaRPr b="0" lang="en-US" sz="28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3233 Brandon Gate Dr., Unit 6, Malton, ON</a:t>
            </a:r>
            <a:endParaRPr b="0" lang="en-US" sz="2800" spc="-1" strike="noStrike">
              <a:solidFill>
                <a:srgbClr val="000000"/>
              </a:solidFill>
              <a:latin typeface="Arial"/>
            </a:endParaRPr>
          </a:p>
        </p:txBody>
      </p:sp>
      <p:pic>
        <p:nvPicPr>
          <p:cNvPr id="124" name="Picture 2" descr="C:\Documents and Settings\mPenner\Local Settings\Temporary Internet Files\Content.IE5\1WWNUSJH\MC900056149[1].wmf"/>
          <p:cNvPicPr/>
          <p:nvPr/>
        </p:nvPicPr>
        <p:blipFill>
          <a:blip r:embed="rId1"/>
          <a:stretch/>
        </p:blipFill>
        <p:spPr>
          <a:xfrm>
            <a:off x="6951600" y="2209680"/>
            <a:ext cx="219240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r>
              <a:rPr b="1" lang="en-US" sz="3600" spc="-1" strike="noStrike">
                <a:solidFill>
                  <a:srgbClr val="262673"/>
                </a:solidFill>
                <a:latin typeface="Arial"/>
              </a:rPr>
              <a:t>QUESTIONS</a:t>
            </a:r>
            <a:endParaRPr b="0" lang="en-US" sz="3600" spc="-1" strike="noStrike">
              <a:solidFill>
                <a:srgbClr val="000000"/>
              </a:solidFill>
              <a:latin typeface="Arial"/>
            </a:endParaRPr>
          </a:p>
        </p:txBody>
      </p:sp>
      <p:pic>
        <p:nvPicPr>
          <p:cNvPr id="126" name="Picture 2" descr="C:\Documents and Settings\mPenner\Local Settings\Temporary Internet Files\Content.IE5\JBGC84QO\MC900441902[1].wmf"/>
          <p:cNvPicPr/>
          <p:nvPr/>
        </p:nvPicPr>
        <p:blipFill>
          <a:blip r:embed="rId1"/>
          <a:stretch/>
        </p:blipFill>
        <p:spPr>
          <a:xfrm>
            <a:off x="5181480" y="2590920"/>
            <a:ext cx="3048120" cy="36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1752480"/>
            <a:ext cx="8229600" cy="4602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Our fun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Documents and Settings\mPenner\Local Settings\Temporary Internet Files\Content.IE5\ES2RNWJX\MP900443105[1].jpg"/>
          <p:cNvPicPr/>
          <p:nvPr/>
        </p:nvPicPr>
        <p:blipFill>
          <a:blip r:embed="rId1"/>
          <a:stretch/>
        </p:blipFill>
        <p:spPr>
          <a:xfrm>
            <a:off x="5715000" y="3429000"/>
            <a:ext cx="2919240" cy="29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44756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Programs &amp; Servic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ducation &amp; Training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Youth Programs &amp; Services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ettlement &amp; Language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amp; Career </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2" descr="C:\Documents and Settings\mPenner\Local Settings\Temporary Internet Files\Content.IE5\367L4V63\MC900060143[1].wmf"/>
          <p:cNvPicPr/>
          <p:nvPr/>
        </p:nvPicPr>
        <p:blipFill>
          <a:blip r:embed="rId1"/>
          <a:stretch/>
        </p:blipFill>
        <p:spPr>
          <a:xfrm>
            <a:off x="6019920" y="4267080"/>
            <a:ext cx="236376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371600"/>
            <a:ext cx="8229600" cy="548640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ducation &amp; Training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ation &amp; Translation Service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rporate Training</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General Education Development Program (GED)</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er Training &amp; Certificate Program</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HBI College </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3" descr="C:\Documents and Settings\mPenner\Local Settings\Temporary Internet Files\Content.IE5\97FW2GUI\MC900054809[1].wmf"/>
          <p:cNvPicPr/>
          <p:nvPr/>
        </p:nvPicPr>
        <p:blipFill>
          <a:blip r:embed="rId1"/>
          <a:stretch/>
        </p:blipFill>
        <p:spPr>
          <a:xfrm>
            <a:off x="6019920" y="4343400"/>
            <a:ext cx="2365200" cy="20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676160"/>
            <a:ext cx="8839080" cy="518148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Youth Programs &amp; Services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marL="914400" indent="-4572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p:txBody>
      </p:sp>
      <p:pic>
        <p:nvPicPr>
          <p:cNvPr id="101" name="Picture 2" descr="C:\Documents and Settings\mPenner\Local Settings\Temporary Internet Files\Content.IE5\367L4V63\MP900438811[1].jpg"/>
          <p:cNvPicPr/>
          <p:nvPr/>
        </p:nvPicPr>
        <p:blipFill>
          <a:blip r:embed="rId1"/>
          <a:stretch/>
        </p:blipFill>
        <p:spPr>
          <a:xfrm>
            <a:off x="5486400" y="41911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1371240"/>
            <a:ext cx="9144000" cy="5257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Settlement &amp; Language</a:t>
            </a:r>
            <a:endParaRPr b="0" lang="en-US" sz="32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wcomer Information Centr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Centres &amp; Training Provider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nadian Language Benchmarks - Online Self-Assessment (CLB-OSA)</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EAD (Language Education at a Distance)| LINC Home Study</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marL="335880" indent="-335880">
              <a:spcBef>
                <a:spcPts val="27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Support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ational Enhanced Language Training Placement Assessment </a:t>
            </a:r>
            <a:br>
              <a:rPr sz="2400"/>
            </a:br>
            <a:r>
              <a:rPr b="0" lang="en-US" sz="2400" spc="-1" strike="noStrike">
                <a:solidFill>
                  <a:srgbClr val="262673"/>
                </a:solidFill>
                <a:latin typeface="Arial"/>
              </a:rPr>
              <a:t>( ELTPA )</a:t>
            </a:r>
            <a:endParaRPr b="0" lang="en-US" sz="2400" spc="-1" strike="noStrike">
              <a:solidFill>
                <a:srgbClr val="000000"/>
              </a:solidFill>
              <a:latin typeface="Arial"/>
            </a:endParaRPr>
          </a:p>
        </p:txBody>
      </p:sp>
      <p:pic>
        <p:nvPicPr>
          <p:cNvPr id="103" name="Picture 5" descr="C:\Documents and Settings\mPenner\Local Settings\Temporary Internet Files\Content.IE5\K6FJT52Q\MC900188481[1].wmf"/>
          <p:cNvPicPr/>
          <p:nvPr/>
        </p:nvPicPr>
        <p:blipFill>
          <a:blip r:embed="rId1"/>
          <a:stretch/>
        </p:blipFill>
        <p:spPr>
          <a:xfrm>
            <a:off x="5867280" y="4267080"/>
            <a:ext cx="2665440" cy="16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amp; Career</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lvl="1" marL="343080" indent="-343080">
              <a:spcBef>
                <a:spcPts val="4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73"/>
                </a:solidFill>
                <a:latin typeface="Arial"/>
              </a:rPr>
              <a:t>Employment Ontario </a:t>
            </a:r>
            <a:r>
              <a:rPr b="0" lang="en-US" sz="2400" spc="-1" strike="noStrike">
                <a:solidFill>
                  <a:srgbClr val="262673"/>
                </a:solidFill>
                <a:latin typeface="Arial"/>
              </a:rPr>
              <a:t>Employment Servic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5" descr="C:\Documents and Settings\mPenner\Local Settings\Temporary Internet Files\Content.IE5\ES2RNWJX\MC900234110[1].wmf"/>
          <p:cNvPicPr/>
          <p:nvPr/>
        </p:nvPicPr>
        <p:blipFill>
          <a:blip r:embed="rId1"/>
          <a:stretch/>
        </p:blipFill>
        <p:spPr>
          <a:xfrm>
            <a:off x="6737400" y="3282840"/>
            <a:ext cx="2406600" cy="357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716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p:txBody>
      </p:sp>
      <p:graphicFrame>
        <p:nvGraphicFramePr>
          <p:cNvPr id="107" name="Object 1"/>
          <p:cNvGraphicFramePr/>
          <p:nvPr/>
        </p:nvGraphicFramePr>
        <p:xfrm>
          <a:off x="4191120" y="2971800"/>
          <a:ext cx="4618080" cy="1716120"/>
        </p:xfrm>
        <a:graphic>
          <a:graphicData uri="http://schemas.openxmlformats.org/presentationml/2006/ole">
            <p:oleObj r:id="rId1" spid="">
              <p:embed/>
              <p:pic>
                <p:nvPicPr>
                  <p:cNvPr id="108" name="Object 1" descr=""/>
                  <p:cNvPicPr/>
                  <p:nvPr/>
                </p:nvPicPr>
                <p:blipFill>
                  <a:blip r:embed="rId2"/>
                  <a:stretch/>
                </p:blipFill>
                <p:spPr>
                  <a:xfrm>
                    <a:off x="4191120" y="2971800"/>
                    <a:ext cx="4618080" cy="17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447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Funded by </a:t>
            </a:r>
            <a:r>
              <a:rPr b="0" i="1"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a:t>
            </a:r>
            <a:r>
              <a:rPr b="0" lang="en-US" sz="3200" spc="-1" strike="noStrike">
                <a:solidFill>
                  <a:srgbClr val="262673"/>
                </a:solidFill>
                <a:latin typeface="Arial"/>
              </a:rPr>
              <a:t>One-Stop Shop” Concept</a:t>
            </a:r>
            <a:endParaRPr b="0" lang="en-US" sz="3200" spc="-1" strike="noStrike">
              <a:solidFill>
                <a:srgbClr val="000000"/>
              </a:solidFill>
              <a:latin typeface="Arial"/>
            </a:endParaRPr>
          </a:p>
        </p:txBody>
      </p:sp>
      <p:pic>
        <p:nvPicPr>
          <p:cNvPr id="110" name="Picture 6" descr="C:\Documents and Settings\mPenner\Local Settings\Temporary Internet Files\Content.IE5\BRK5ZFFT\MP900431745[1].jpg"/>
          <p:cNvPicPr/>
          <p:nvPr/>
        </p:nvPicPr>
        <p:blipFill>
          <a:blip r:embed="rId1"/>
          <a:stretch/>
        </p:blipFill>
        <p:spPr>
          <a:xfrm>
            <a:off x="5791320" y="4191120"/>
            <a:ext cx="30607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22:07:51Z</dcterms:created>
  <dc:creator>Valued Acer Customer</dc:creator>
  <dc:description/>
  <dc:language>en-US</dc:language>
  <cp:lastModifiedBy>aholmes</cp:lastModifiedBy>
  <dcterms:modified xsi:type="dcterms:W3CDTF">2011-07-08T18:33:48Z</dcterms:modified>
  <cp:revision>26</cp:revision>
  <dc:subject/>
  <dc:title>Slide 1</dc:title>
</cp:coreProperties>
</file>